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938-3ED0-4DF2-81AE-17302961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7BF-0E27-43DB-956D-3074036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BD1-BD19-4F20-86CF-845EE10D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E41-2C31-4DAE-88C9-C29C6CE5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E87-7F3E-4CFD-B6FA-0FADA489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8A6-CBFF-411D-A73C-8F81E41D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178-508D-4EB4-8C28-B5D283B9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FB2-43A3-45F3-8E05-868C2266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E2E-652E-4B9C-9900-60EE2EED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6AD-D851-4EAE-BF7D-51C3D95B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E5B-6AED-4BE0-8ECE-2B3ABC6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F11-04BC-495D-9172-173728B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67EE-4202-4E63-8F1C-58D63B540CA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68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Industrialization  PH RD 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96080" y="1138320"/>
            <a:ext cx="1282680" cy="322200"/>
            <a:chOff x="7696080" y="1138320"/>
            <a:chExt cx="1282680" cy="322200"/>
          </a:xfrm>
        </p:grpSpPr>
        <p:sp>
          <p:nvSpPr>
            <p:cNvPr id="45" name=""/>
            <p:cNvSpPr/>
            <p:nvPr/>
          </p:nvSpPr>
          <p:spPr>
            <a:xfrm>
              <a:off x="7729920" y="123012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96080" y="11383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14605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7524720" y="6165720"/>
            <a:ext cx="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5480" y="1479600"/>
            <a:ext cx="2311200" cy="6238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RD 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Industr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Thonha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288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L Co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Klaus Kroe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Process&amp;Qu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M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.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Concept &amp;Technology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Udo Bee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772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lmut Rieseneg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rtwin Sch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29240" y="5065560"/>
            <a:ext cx="138564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LP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Becker-Bam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2288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L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Ralph Mailae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2288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ia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WT 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0"/>
            <a:endCxn id="49" idx="2"/>
          </p:cNvCxnSpPr>
          <p:nvPr/>
        </p:nvCxnSpPr>
        <p:spPr>
          <a:xfrm flipH="1" flipV="1" rot="5400000">
            <a:off x="1934640" y="2409480"/>
            <a:ext cx="2962440" cy="235080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3" idx="0"/>
            <a:endCxn id="49" idx="2"/>
          </p:cNvCxnSpPr>
          <p:nvPr/>
        </p:nvCxnSpPr>
        <p:spPr>
          <a:xfrm flipH="1" flipV="1" rot="5400000">
            <a:off x="2704680" y="3179520"/>
            <a:ext cx="2962440" cy="81072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0"/>
            <a:endCxn id="49" idx="2"/>
          </p:cNvCxnSpPr>
          <p:nvPr/>
        </p:nvCxnSpPr>
        <p:spPr>
          <a:xfrm flipV="1" rot="16200000">
            <a:off x="3475440" y="3219120"/>
            <a:ext cx="2962440" cy="731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6" idx="0"/>
            <a:endCxn id="49" idx="2"/>
          </p:cNvCxnSpPr>
          <p:nvPr/>
        </p:nvCxnSpPr>
        <p:spPr>
          <a:xfrm flipV="1" rot="16200000">
            <a:off x="4222440" y="2472120"/>
            <a:ext cx="2962440" cy="2225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1" idx="3"/>
            <a:endCxn id="49" idx="2"/>
          </p:cNvCxnSpPr>
          <p:nvPr/>
        </p:nvCxnSpPr>
        <p:spPr>
          <a:xfrm flipV="1">
            <a:off x="2933640" y="2103480"/>
            <a:ext cx="165780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2" idx="3"/>
            <a:endCxn id="49" idx="2"/>
          </p:cNvCxnSpPr>
          <p:nvPr/>
        </p:nvCxnSpPr>
        <p:spPr>
          <a:xfrm flipV="1">
            <a:off x="2933640" y="2103480"/>
            <a:ext cx="165780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7" idx="1"/>
            <a:endCxn id="49" idx="2"/>
          </p:cNvCxnSpPr>
          <p:nvPr/>
        </p:nvCxnSpPr>
        <p:spPr>
          <a:xfrm rot="10800000">
            <a:off x="4590720" y="2103480"/>
            <a:ext cx="153216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0" idx="1"/>
            <a:endCxn id="49" idx="2"/>
          </p:cNvCxnSpPr>
          <p:nvPr/>
        </p:nvCxnSpPr>
        <p:spPr>
          <a:xfrm rot="10800000">
            <a:off x="4590720" y="2103120"/>
            <a:ext cx="153216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beeker</cp:lastModifiedBy>
  <dcterms:modified xsi:type="dcterms:W3CDTF">2006-05-23T16:50:28Z</dcterms:modified>
  <cp:revision>135</cp:revision>
  <dc:subject/>
  <dc:title>PowerPoint 簡報</dc:title>
</cp:coreProperties>
</file>